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430-D950-48DD-814C-269705AF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A77-84E8-4111-B89B-01ED407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92E-CF1A-43B0-807D-DE2FEFC4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F8B-5DB8-4C0E-B3BC-036B519B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A1E-84CE-4FB5-972E-B3FD1FD4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0932-02DF-4E9A-9A63-8A17BDD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352-2F6E-4529-87FA-05C349B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AFC-DAC3-4AE4-B43C-430CD6A6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846-C11C-46FE-AE05-2B6EF1A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779-ED0D-46BE-96CF-76F7F14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7B1-8935-47E7-A5BC-970C3E6D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53F-4312-4E96-981E-5F5B1CD9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590FF-56B9-477B-AA47-1EAF83013D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чать урок. Интересные педагогические нахо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73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свидетельствует, что люди добиваются большего, если сами смогут формулировать цели. Сосредоточиться ученикам на своей цели поможет список вопро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едства и условия. Как я могу их использовать? Что мне потребуется дополнит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язательства ( стараюсь ли я приложить все усилия для достижения цели ?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ействия (первый шаг, второй и т.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 художественную и научно-популярную литера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ывки из данных произведений можно использовать на разных этапах урока ив разных ц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ллюстрации, для постановки вопросов на 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формирования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инная галере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спользует видеофраг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ет на доске 4-5 картин (фотографий), которые содержат признаки основного понятия или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, предлагает через некоторое время назвать признаки понятия (явления), которое изображ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вершения работы, учитель записывает его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активизации работы и активизации учеников в начале урока учитель раздает справочники, газеты, журналы или страницы этих изданий, где есть информация по теме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просит выделить конкретную информацию, подчеркивая важность ее повседневного ис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риант можно использовать отрывки из художественной и научно-популярной лит-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40000" y="720720"/>
            <a:ext cx="6119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зговая атака.Алгоритм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900000"/>
            <a:ext cx="4680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9640" y="720720"/>
            <a:ext cx="468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270036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19640" y="144000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9640" y="1273320"/>
            <a:ext cx="468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161928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91296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519280"/>
            <a:ext cx="1952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8796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00360"/>
            <a:ext cx="1569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287964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59280" y="2533680"/>
            <a:ext cx="2940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терми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06072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600360"/>
            <a:ext cx="2741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ения 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8560" y="4500720"/>
            <a:ext cx="2392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ие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0360" y="3780000"/>
            <a:ext cx="5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9640" y="3433680"/>
            <a:ext cx="2286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ция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9640" y="4859280"/>
            <a:ext cx="5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4680" y="4255920"/>
            <a:ext cx="40514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дискуссия в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енных ид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сть,целесообраз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ги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77840" y="5040360"/>
            <a:ext cx="7239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1000" y="5400720"/>
            <a:ext cx="1949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луч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0720" y="575928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5580000"/>
            <a:ext cx="2003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нч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57120" y="6119640"/>
            <a:ext cx="7239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0360" y="6300720"/>
            <a:ext cx="1854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в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Возможные препятствия ( их предсказа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аблюдение и контроль ( как себя контролировать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ддержка ( нужна ли она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Проверка ( нужно ли что-то изменить, чтобы достичь цели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Самооценка ( насколько мне удалось достичь цели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нентами мотивационной сферы обучения являются его мотивы, цели, эмоции, а также умение учиться, что в свою очередь значительно влияет на мотив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ожет лишь повлиять на формирование у учащихся мотиваторов ( интересов, склонностей, нравственных норм, жизненных принципов), которые используются субъектом для самоформирования моти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313200"/>
            <a:ext cx="907092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емы, которые учитель использует для мотивации учебной деятельности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8720" y="1760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иемы, которые стимулируют долг и ответ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емы, формирующие познавательный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емы, направленные на создание проблемных ситуаций с акцентом на практическом и общественно-социальном значении полученн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14940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проблемных ситуац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2160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9280" y="1979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78200" y="1619280"/>
            <a:ext cx="5428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0" y="1100160"/>
            <a:ext cx="28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2160720"/>
            <a:ext cx="1828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фак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619280"/>
            <a:ext cx="53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160720"/>
            <a:ext cx="190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97480" y="1619280"/>
            <a:ext cx="3636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9280" y="1619280"/>
            <a:ext cx="90036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46760" y="2519280"/>
            <a:ext cx="1714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0360" y="1258560"/>
            <a:ext cx="1079640" cy="1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05680" y="1120680"/>
            <a:ext cx="1900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1440000"/>
            <a:ext cx="1979640" cy="107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99280" y="2519280"/>
            <a:ext cx="1416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99280" y="270036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3780000"/>
            <a:ext cx="1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99280" y="287964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9280" y="2700360"/>
            <a:ext cx="126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51928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99280" y="251928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99280" y="4680000"/>
            <a:ext cx="1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9280" y="3959280"/>
            <a:ext cx="676584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60720" y="3780000"/>
            <a:ext cx="1800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319640"/>
            <a:ext cx="2340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0720" y="4859280"/>
            <a:ext cx="306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395928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19640" y="450072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40360" y="504036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780000"/>
            <a:ext cx="216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ений,прав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450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99280" y="4140360"/>
            <a:ext cx="14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ие приемы, влияющие на формирование мотив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ляй! Обыденные и повседневные явления, события, предметы могут стать странными, если на них посмотреть с другой т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ление-начальная фаза развития познавательного интер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произойдет, если...?» В этих вопросах рассматриваются парадоксальные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могут найти их и предложить подобные ситуации для об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-сложное психическое образование, которое должен построить сам су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нтастическая добав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дополняет реальную ситуацию элементами фанта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можно перенести учебную ситуацию на фантастическую план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фантастический рассказ, эссе, стихотворение, используя знания по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сроченная отга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урока учитель загадывает загадку (или малоизвестный и удивительный  факт),отгадку на которую можно узнать на уроке при работе над новым матери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м следующие варианты работы с кроссворд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Разгадать кроссворд, заполнив кле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формулировать вопросы к словам в заполненном кроссво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полняя кроссворд, определить, какое ключевое слово выделено, и объяснить его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Создать кроссворд самостоятельно, используя термины, которые были изучены зара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2-04-05T20:30:29Z</dcterms:modified>
  <cp:revision>2</cp:revision>
  <dc:subject/>
  <dc:title/>
</cp:coreProperties>
</file>