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9A3E-D1FB-4AB2-82E2-4AE72746C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75F5-D515-42DD-A9A8-30180801C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CF00-6A12-4A87-B488-5F822EB4A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8B74-3C0B-478D-AC17-3B6136AFF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515D-991D-4A11-B535-8D4A840F7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86F7-2887-483D-B0E0-A1B9D3E74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2EE8-D97C-4CF7-B157-618ECD38E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48A2-4EB3-4025-A043-94483F708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0807-8352-47B0-A0E2-072066A3D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A4C6-89DD-4403-9882-A56C55B6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F45F-EF0C-4C97-8EA9-1851E4E1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4B0C-0C38-4A3F-A1D5-C6FC8610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993A30-2CAF-4FEC-A65B-949A5A7B732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начать урок. Интересные педагогические наход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734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423000" indent="-317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ыт свидетельствует, что люди добиваются большего, если сами смогут формулировать цели. Сосредоточиться ученикам на своей цели поможет список вопрос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Ц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Средства и условия. Как я могу их использовать? Что мне потребуется дополнитель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Обязательства ( стараюсь ли я приложить все усилия для достижения цели ? )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000" indent="-317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Действия (первый шаг, второй и т.д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итаем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уем художественную и научно-популярную литерату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рывки из данных произведений можно использовать на разных этапах урока ив разных цел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иллюстрации, для постановки вопросов на закрепление изученного матери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формирования мотив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ртинная галере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 использует видеофрагм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мещает на доске 4-5 картин (фотографий), которые содержат признаки основного понятия или я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, предлагает через некоторое время назвать признаки понятия (явления), которое изображе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 завершения работы, учитель записывает его на дос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чники информаци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1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активизации работы и активизации учеников в начале урока учитель раздает справочники, газеты, журналы или страницы этих изданий, где есть информация по теме ур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 просит выделить конкретную информацию, подчеркивая важность ее повседневного использ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вариант можно использовать отрывки из художественной и научно-популярной лит-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340000" y="720720"/>
            <a:ext cx="611964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6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озговая атака.Алгоритм действ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19640" y="900000"/>
            <a:ext cx="46800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319640" y="720720"/>
            <a:ext cx="4680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80360" y="2700360"/>
            <a:ext cx="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319640" y="1440000"/>
            <a:ext cx="504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19640" y="1273320"/>
            <a:ext cx="4680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00720" y="1619280"/>
            <a:ext cx="179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40360" y="912960"/>
            <a:ext cx="179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00000" y="2519280"/>
            <a:ext cx="195264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рмулиров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л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00360" y="2879640"/>
            <a:ext cx="360360" cy="1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19640" y="2700360"/>
            <a:ext cx="15699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танов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40360" y="2879640"/>
            <a:ext cx="539640" cy="1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759280" y="2533680"/>
            <a:ext cx="29401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ределение термин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суж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79640" y="3060720"/>
            <a:ext cx="1440" cy="539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00000" y="3600360"/>
            <a:ext cx="274176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ражения сужден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79640" y="4140360"/>
            <a:ext cx="1440" cy="3603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98560" y="4500720"/>
            <a:ext cx="23922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основание ид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0360" y="3780000"/>
            <a:ext cx="54000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19640" y="3433680"/>
            <a:ext cx="228600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гистрация ид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дос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79640" y="4859280"/>
            <a:ext cx="540000" cy="1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14680" y="4255920"/>
            <a:ext cx="405144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щая дискуссия вокр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ставленных иде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ильность,целесообразнос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игина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877840" y="5040360"/>
            <a:ext cx="723960" cy="3603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51000" y="5400720"/>
            <a:ext cx="19494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лучш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де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60720" y="5759280"/>
            <a:ext cx="539640" cy="1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780000" y="5580000"/>
            <a:ext cx="20034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осно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кончатель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057120" y="6119640"/>
            <a:ext cx="723960" cy="3603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60360" y="6300720"/>
            <a:ext cx="18543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ве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тогов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Возможные препятствия ( их предсказани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Наблюдение и контроль ( как себя контролировать?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. Поддержка ( нужна ли она?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. Проверка ( нужно ли что-то изменить, чтобы достичь цели?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. Самооценка ( насколько мне удалось достичь цели?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онентами мотивационной сферы обучения являются его мотивы, цели, эмоции, а также умение учиться, что в свою очередь значительно влияет на мотивац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 может лишь повлиять на формирование у учащихся мотиваторов ( интересов, склонностей, нравственных норм, жизненных принципов), которые используются субъектом для самоформирования мотив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-313200"/>
            <a:ext cx="907092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емы, которые учитель использует для мотивации учебной деятельности.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8720" y="1760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приемы, которые стимулируют долг и ответствен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приемы, формирующие познавательный интере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приемы, направленные на создание проблемных ситуаций с акцентом на практическом и общественно-социальном значении полученных зн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03280" y="149400"/>
            <a:ext cx="907092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здание проблемных ситуаци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9280" y="2160720"/>
            <a:ext cx="144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9280" y="1979640"/>
            <a:ext cx="144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878200" y="1619280"/>
            <a:ext cx="542880" cy="539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0" y="1100160"/>
            <a:ext cx="28796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тивореч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00360" y="2160720"/>
            <a:ext cx="18288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вые факты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40360" y="1619280"/>
            <a:ext cx="539640" cy="539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40360" y="2160720"/>
            <a:ext cx="19000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меняющие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5397480" y="1619280"/>
            <a:ext cx="363600" cy="539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59280" y="1619280"/>
            <a:ext cx="900360" cy="9000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846760" y="2519280"/>
            <a:ext cx="171468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ктиче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940360" y="1258560"/>
            <a:ext cx="1079640" cy="1825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105680" y="1120680"/>
            <a:ext cx="190008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ествующ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940360" y="1440000"/>
            <a:ext cx="1979640" cy="10792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099280" y="2519280"/>
            <a:ext cx="141624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в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б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099280" y="2700360"/>
            <a:ext cx="1440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820000" y="3780000"/>
            <a:ext cx="17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099280" y="2879640"/>
            <a:ext cx="1440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099280" y="2700360"/>
            <a:ext cx="1260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920000" y="2519280"/>
            <a:ext cx="1440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099280" y="2519280"/>
            <a:ext cx="1440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099280" y="4680000"/>
            <a:ext cx="17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19280" y="3959280"/>
            <a:ext cx="6765840" cy="15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60720" y="3780000"/>
            <a:ext cx="18000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равн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60720" y="4319640"/>
            <a:ext cx="23400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поставл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60720" y="4859280"/>
            <a:ext cx="30607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тивопоставл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3959280"/>
            <a:ext cx="180000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319640" y="4500720"/>
            <a:ext cx="126036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40360" y="5040360"/>
            <a:ext cx="53964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780000"/>
            <a:ext cx="216072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кт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влений,прави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йст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740720" y="4500720"/>
            <a:ext cx="36036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099280" y="4140360"/>
            <a:ext cx="14400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общ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2920" y="30600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тодические приемы, влияющие на формирование мотиваци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дивляй! Обыденные и повседневные явления, события, предметы могут стать странными, если на них посмотреть с другой точки зр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дивление-начальная фаза развития познавательного интере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Что произойдет, если...?» В этих вопросах рассматриваются парадоксальные ситуа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ащиеся могут найти их и предложить подобные ситуации для обсуж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тив-сложное психическое образование, которое должен построить сам субъек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0600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антастическая добавка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 дополняет реальную ситуацию элементами фантаст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ример, можно перенести учебную ситуацию на фантастическую плане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исать фантастический рассказ, эссе, стихотворение, используя знания по предме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сроченная отгад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начале урока учитель загадывает загадку (или малоизвестный и удивительный  факт),отгадку на которую можно узнать на уроке при работе над новым материа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оссворд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6369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лагаем следующие варианты работы с кроссворда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Разгадать кроссворд, заполнив клеточ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Сформулировать вопросы к словам в заполненном кроссвор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Заполняя кроссворд, определить, какое ключевое слово выделено, и объяснить его знач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Создать кроссворд самостоятельно, используя термины, которые были изучены заране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2-04-05T20:30:29Z</dcterms:modified>
  <cp:revision>2</cp:revision>
  <dc:subject/>
  <dc:title/>
</cp:coreProperties>
</file>